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9.wmf" ContentType="image/x-wmf"/>
  <Override PartName="/ppt/media/image11.wmf" ContentType="image/x-wmf"/>
  <Override PartName="/ppt/media/image7.png" ContentType="image/png"/>
  <Override PartName="/ppt/media/image1.jpeg" ContentType="image/jpeg"/>
  <Override PartName="/ppt/media/image12.wmf" ContentType="image/x-wmf"/>
  <Override PartName="/ppt/media/image6.jpeg" ContentType="image/jpeg"/>
  <Override PartName="/ppt/media/image5.wmf" ContentType="image/x-wmf"/>
  <Override PartName="/ppt/media/image28.wmf" ContentType="image/x-wmf"/>
  <Override PartName="/ppt/media/image10.wmf" ContentType="image/x-wmf"/>
  <Override PartName="/ppt/media/image3.wmf" ContentType="image/x-wmf"/>
  <Override PartName="/ppt/media/image26.wmf" ContentType="image/x-wmf"/>
  <Override PartName="/ppt/media/image2.jpeg" ContentType="image/jpeg"/>
  <Override PartName="/ppt/media/image25.wmf" ContentType="image/x-wmf"/>
  <Override PartName="/ppt/media/image24.png" ContentType="image/png"/>
  <Override PartName="/ppt/media/image23.wmf" ContentType="image/x-wmf"/>
  <Override PartName="/ppt/media/image22.wmf" ContentType="image/x-wmf"/>
  <Override PartName="/ppt/media/image21.wmf" ContentType="image/x-wmf"/>
  <Override PartName="/ppt/media/image20.wmf" ContentType="image/x-wmf"/>
  <Override PartName="/ppt/media/image19.png" ContentType="image/png"/>
  <Override PartName="/ppt/media/image18.png" ContentType="image/png"/>
  <Override PartName="/ppt/media/image17.png" ContentType="image/png"/>
  <Override PartName="/ppt/media/image16.wmf" ContentType="image/x-wmf"/>
  <Override PartName="/ppt/media/image15.png" ContentType="image/png"/>
  <Override PartName="/ppt/media/image14.wmf" ContentType="image/x-wmf"/>
  <Override PartName="/ppt/media/image4.wmf" ContentType="image/x-wmf"/>
  <Override PartName="/ppt/media/image2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99BCC-2818-4E86-BE3E-E6CB95976C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ecide, please, one simple sum: “ How we can separate one apple; one banana; one orange and one cup of cherry among  - 3 your children ?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swer is very simple. You can see one on this pi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10E2-5341-4D6D-B892-D1633DB8A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F95F-227D-4BBA-94A4-63C1460BA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77C5-B57E-49F7-8FC9-627793C35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1D4E-0B44-49AD-8A9B-18EE7E12F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AB631-433A-44F5-AC4E-427433D78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8C7B5-AC24-41D0-9EBC-AE3589934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06ADD-36BA-4D4E-83E0-5D4ECF0F5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B6EF6-816E-448A-BF75-8FA496E6F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0A92D-D0C3-4CBE-8CB4-68A91BE15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96C0B-BB4C-4DDB-A9FE-74604884E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C0AB7-F470-432D-97B4-1554D97B7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5C8D-8B6F-44B2-93CB-E91632810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84DB4-7358-44D1-BF6D-22BA93C5D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AEB0D-6CAA-4407-9F87-A2EAFC8DB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69B56-C6DD-44FD-ABFA-BBD83D8D7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F3D9E-2ECA-46ED-BE80-B59A3AB08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CC447-2323-4B65-B794-57B24E494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390A-2C66-4AC0-A425-E82806A00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1F93-200D-43F1-8A3A-BE54490E4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D14D-ED93-47B8-8AB0-36D107281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3244-828E-48EE-AA39-5DE9FA60C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BAF9-2855-4202-94B2-0BFF6AD0E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119C-CB19-4B58-BC2A-74B3754C9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F38D-6112-4A15-A71A-02BA59C4A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C074C-EA9D-4E81-9BC7-C573C98EDFF6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49C90-58DB-4D8E-BA75-B985E4E67A92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333333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120" y="16761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4c2b"/>
                </a:solidFill>
                <a:latin typeface="Arial"/>
              </a:rPr>
              <a:t>Психология взаимоотношений и питание</a:t>
            </a:r>
            <a:endParaRPr b="0" lang="en-US" sz="5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666880" y="3429000"/>
            <a:ext cx="609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908000" y="3314880"/>
            <a:ext cx="5359680" cy="35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4c2b"/>
                </a:solidFill>
                <a:latin typeface="Arial"/>
              </a:rPr>
              <a:t>Кто мы?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04920" y="765000"/>
            <a:ext cx="2971800" cy="39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Тело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- физические нужды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33"/>
                </a:solidFill>
                <a:latin typeface="Arial"/>
              </a:rPr>
              <a:t>Мы</a:t>
            </a:r>
            <a:r>
              <a:rPr b="1" lang="ru-RU" sz="22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333333"/>
                </a:solidFill>
                <a:latin typeface="Arial"/>
              </a:rPr>
              <a:t>должны кушать, чтобы жить. Мы должны кушать здоровую пищу, чтобы иметь полноценную счастливую жизнь!</a:t>
            </a:r>
            <a:endParaRPr b="0" lang="en-US" sz="2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292720" y="533520"/>
            <a:ext cx="3622680" cy="45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Душа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- эмоциональные нужды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Как мы кушаем?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Где мы кушаем?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Что мы кушаем?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Наше настроение зависит от ответов на эти вопросы. Наши взаимоотношения зависят от наших  эмоций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5084640"/>
            <a:ext cx="883908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Дух 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- духовные нужды</a:t>
            </a: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  </a:t>
            </a:r>
            <a:r>
              <a:rPr b="1" lang="ru-RU" sz="2200" spc="-1" strike="noStrike">
                <a:solidFill>
                  <a:srgbClr val="333333"/>
                </a:solidFill>
                <a:latin typeface="Arial"/>
              </a:rPr>
              <a:t>«Итак, едите ли, </a:t>
            </a:r>
            <a:endParaRPr b="0" lang="en-US" sz="22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33"/>
                </a:solidFill>
                <a:latin typeface="Arial"/>
              </a:rPr>
              <a:t>пьете ли  или иное что делаете, все делайте во славу Божию</a:t>
            </a:r>
            <a:r>
              <a:rPr b="1" lang="ru-RU" sz="2200" spc="-1" strike="noStrike">
                <a:solidFill>
                  <a:srgbClr val="333333"/>
                </a:solidFill>
                <a:latin typeface="Times New Roman"/>
              </a:rPr>
              <a:t>»</a:t>
            </a:r>
            <a:r>
              <a:rPr b="0" lang="ru-RU" sz="2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1 </a:t>
            </a:r>
            <a:r>
              <a:rPr b="1" i="1" lang="en-US" sz="2000" spc="-1" strike="noStrike">
                <a:solidFill>
                  <a:srgbClr val="333333"/>
                </a:solidFill>
                <a:latin typeface="Times New Roman"/>
              </a:rPr>
              <a:t>Коринфянам 10:31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324480" y="4724280"/>
            <a:ext cx="221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3276720" y="1066680"/>
            <a:ext cx="2087280" cy="3429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6858000" y="533412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24400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4c2b"/>
                </a:solidFill>
                <a:latin typeface="Arial"/>
              </a:rPr>
              <a:t>Питание - </a:t>
            </a:r>
            <a:br>
              <a:rPr sz="4000"/>
            </a:br>
            <a:r>
              <a:rPr b="1" lang="en-US" sz="4000" spc="-1" strike="noStrike">
                <a:solidFill>
                  <a:srgbClr val="004c2b"/>
                </a:solidFill>
                <a:latin typeface="Arial"/>
              </a:rPr>
              <a:t>это исскуство и наука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666880" y="34290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523880" y="152388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114800" y="472428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2971800"/>
            <a:ext cx="335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6095880" y="549360"/>
            <a:ext cx="3048120" cy="26985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228600" y="3429000"/>
            <a:ext cx="2759040" cy="30081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380880" y="1219320"/>
            <a:ext cx="5486400" cy="2057400"/>
          </a:xfrm>
          <a:custGeom>
            <a:avLst/>
            <a:gdLst>
              <a:gd name="textAreaLeft" fmla="*/ 734760 w 5486400"/>
              <a:gd name="textAreaRight" fmla="*/ 4751640 w 5486400"/>
              <a:gd name="textAreaTop" fmla="*/ 360000 h 2057400"/>
              <a:gd name="textAreaBottom" fmla="*/ 149184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ccc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59280" y="3200400"/>
            <a:ext cx="5779800" cy="31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Сам же Бог мира да освятит вас во всей полноте, и ваш дух и душа и тело во всей целости да сохранится без порока в пришествие Господа нашего Иисуса Христа”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33"/>
                </a:solidFill>
                <a:latin typeface="Times New Roman"/>
              </a:rPr>
              <a:t>1 Фес. 5:23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7" name=""/>
          <p:cNvGraphicFramePr/>
          <p:nvPr/>
        </p:nvGraphicFramePr>
        <p:xfrm>
          <a:off x="0" y="0"/>
          <a:ext cx="9144000" cy="6861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6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424720" cy="2675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993300"/>
                </a:solidFill>
                <a:latin typeface="Arial"/>
              </a:rPr>
              <a:t>ВЕЛИКИЙ </a:t>
            </a:r>
            <a:r>
              <a:rPr b="1" lang="en-US" sz="7200" spc="-1" strike="noStrike">
                <a:solidFill>
                  <a:srgbClr val="993300"/>
                </a:solidFill>
                <a:latin typeface="Arial"/>
              </a:rPr>
              <a:t>    </a:t>
            </a:r>
            <a:r>
              <a:rPr b="1" lang="ru-RU" sz="7200" spc="-1" strike="noStrike">
                <a:solidFill>
                  <a:srgbClr val="993300"/>
                </a:solidFill>
                <a:latin typeface="Arial"/>
              </a:rPr>
              <a:t>БОБ</a:t>
            </a:r>
            <a:endParaRPr b="0" lang="en-US" sz="72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Times New Roman"/>
              </a:rPr>
              <a:t>МЯСО БЕЗ КОСТЕЙ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333333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33"/>
                </a:solidFill>
                <a:latin typeface="Times New Roman"/>
              </a:rPr>
              <a:t>ИССЛЕДОВАТЕЛИ СОИ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419360" cy="4572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333333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Times New Roman"/>
              </a:rPr>
              <a:t>Специалисты,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Times New Roman"/>
              </a:rPr>
              <a:t>занимающиеся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Times New Roman"/>
              </a:rPr>
              <a:t>исследованием и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Times New Roman"/>
              </a:rPr>
              <a:t>клиническим применением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Times New Roman"/>
              </a:rPr>
              <a:t>сои настолько убеждены в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Times New Roman"/>
              </a:rPr>
              <a:t>её полезности, что ожидают,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Times New Roman"/>
              </a:rPr>
              <a:t>от федеральных властей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Times New Roman"/>
              </a:rPr>
              <a:t>добавления двух порций соевых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Times New Roman"/>
              </a:rPr>
              <a:t>продуктов в число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Times New Roman"/>
              </a:rPr>
              <a:t>рекомендуемых пяти 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Times New Roman"/>
              </a:rPr>
              <a:t>ежедневных порций свежих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Times New Roman"/>
              </a:rPr>
              <a:t>овощей и фруктов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48320" y="1828800"/>
          <a:ext cx="4190760" cy="4373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48320" y="1828800"/>
                    <a:ext cx="4190760" cy="437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5" name="soy" descr=""/>
          <p:cNvPicPr/>
          <p:nvPr/>
        </p:nvPicPr>
        <p:blipFill>
          <a:blip r:embed="rId4"/>
          <a:stretch/>
        </p:blipFill>
        <p:spPr>
          <a:xfrm>
            <a:off x="4343400" y="1600200"/>
            <a:ext cx="1447920" cy="156384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5410080" y="2819520"/>
            <a:ext cx="1295640" cy="1752480"/>
          </a:xfrm>
          <a:prstGeom prst="line">
            <a:avLst/>
          </a:prstGeom>
          <a:ln w="76320">
            <a:solidFill>
              <a:srgbClr val="a09e42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562720" y="1600200"/>
            <a:ext cx="228600" cy="380880"/>
          </a:xfrm>
          <a:prstGeom prst="rect">
            <a:avLst/>
          </a:prstGeom>
          <a:solidFill>
            <a:srgbClr val="e4e4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33520" y="6400800"/>
            <a:ext cx="8076960" cy="0"/>
          </a:xfrm>
          <a:prstGeom prst="line">
            <a:avLst/>
          </a:prstGeom>
          <a:ln w="76320">
            <a:solidFill>
              <a:srgbClr val="ffe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09480" y="1143000"/>
            <a:ext cx="7848720" cy="0"/>
          </a:xfrm>
          <a:prstGeom prst="line">
            <a:avLst/>
          </a:prstGeom>
          <a:ln w="76320">
            <a:solidFill>
              <a:srgbClr val="ffe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333333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e7b7"/>
                </a:solidFill>
                <a:latin typeface="Times New Roman"/>
              </a:rPr>
              <a:t>ПИТАТЕЛЬНАЯ ЦЕННОСТЬ СОИ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50560" y="1557360"/>
            <a:ext cx="8055000" cy="438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/>
            </a:outerShdw>
          </a:effectLst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e7b7"/>
                </a:solidFill>
                <a:latin typeface="Times New Roman"/>
              </a:rPr>
              <a:t>Соя содержит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e7b7"/>
                </a:solidFill>
                <a:latin typeface="Times New Roman"/>
              </a:rPr>
              <a:t>высококачественный белок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e7b7"/>
                </a:solidFill>
                <a:latin typeface="Times New Roman"/>
              </a:rPr>
              <a:t>все незаменимые аминокислоты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e7b7"/>
                </a:solidFill>
                <a:latin typeface="Times New Roman"/>
              </a:rPr>
              <a:t>полиненасыщенный жир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e7b7"/>
                </a:solidFill>
                <a:latin typeface="Times New Roman"/>
              </a:rPr>
              <a:t>растворимую клетчатку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e7b7"/>
                </a:solidFill>
                <a:latin typeface="Times New Roman"/>
              </a:rPr>
              <a:t>витамин Е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e7b7"/>
                </a:solidFill>
                <a:latin typeface="Times New Roman"/>
              </a:rPr>
              <a:t>фолиевую кислоту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09480" y="6477120"/>
            <a:ext cx="7848720" cy="0"/>
          </a:xfrm>
          <a:prstGeom prst="line">
            <a:avLst/>
          </a:prstGeom>
          <a:ln w="76320">
            <a:solidFill>
              <a:srgbClr val="ffe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09480" y="1371600"/>
            <a:ext cx="7848720" cy="0"/>
          </a:xfrm>
          <a:prstGeom prst="line">
            <a:avLst/>
          </a:prstGeom>
          <a:ln w="76320">
            <a:solidFill>
              <a:srgbClr val="ffe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692760" y="4433760"/>
          <a:ext cx="2451240" cy="2424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692760" y="4433760"/>
                    <a:ext cx="2451240" cy="24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2895480" y="1362240"/>
            <a:ext cx="3235320" cy="458136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e7b7"/>
                </a:solidFill>
                <a:latin typeface="Times New Roman"/>
              </a:rPr>
              <a:t>СОЯ И СЕРДЦЕ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8423280" cy="4827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e7b7"/>
                </a:solidFill>
                <a:latin typeface="Times New Roman"/>
              </a:rPr>
              <a:t>снижает содержание ЛНП в крови (плохой холестерин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e7b7"/>
                </a:solidFill>
                <a:latin typeface="Times New Roman"/>
              </a:rPr>
              <a:t>не снижает ЛВП (хороший холестерин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e7b7"/>
                </a:solidFill>
                <a:latin typeface="Times New Roman"/>
              </a:rPr>
              <a:t>предотвращает ЛНП от окисления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e7b7"/>
                </a:solidFill>
                <a:latin typeface="Times New Roman"/>
              </a:rPr>
              <a:t>снижает повышенный уровень триглицеридов в крови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e7b7"/>
                </a:solidFill>
                <a:latin typeface="Times New Roman"/>
              </a:rPr>
              <a:t>снижает риск образования тромбов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85800" y="1143000"/>
            <a:ext cx="7848720" cy="0"/>
          </a:xfrm>
          <a:prstGeom prst="line">
            <a:avLst/>
          </a:prstGeom>
          <a:ln w="76320">
            <a:solidFill>
              <a:srgbClr val="ffe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84360" y="6819840"/>
            <a:ext cx="7848360" cy="0"/>
          </a:xfrm>
          <a:prstGeom prst="line">
            <a:avLst/>
          </a:prstGeom>
          <a:ln w="76320">
            <a:solidFill>
              <a:srgbClr val="ffe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e7b7"/>
                </a:solidFill>
                <a:latin typeface="Times New Roman"/>
              </a:rPr>
              <a:t>ПОЛНОЦЕННЫЙ БЕЛОК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627280" y="1523880"/>
            <a:ext cx="6135840" cy="5029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e7b7"/>
                </a:solidFill>
                <a:latin typeface="Times New Roman"/>
              </a:rPr>
              <a:t>Опыт, проведённый над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e7b7"/>
                </a:solidFill>
                <a:latin typeface="Times New Roman"/>
              </a:rPr>
              <a:t>студентами бостонских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e7b7"/>
                </a:solidFill>
                <a:latin typeface="Times New Roman"/>
              </a:rPr>
              <a:t>колледжей, которые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e7b7"/>
                </a:solidFill>
                <a:latin typeface="Times New Roman"/>
              </a:rPr>
              <a:t>употребляли белок из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e7b7"/>
                </a:solidFill>
                <a:latin typeface="Times New Roman"/>
              </a:rPr>
              <a:t>различных источников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e7b7"/>
                </a:solidFill>
                <a:latin typeface="Times New Roman"/>
              </a:rPr>
              <a:t>(соя, мясо, молоко, яйца),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e7b7"/>
                </a:solidFill>
                <a:latin typeface="Times New Roman"/>
              </a:rPr>
              <a:t>показал их равно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e7b7"/>
                </a:solidFill>
                <a:latin typeface="Times New Roman"/>
              </a:rPr>
              <a:t>удовлетворительный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e7b7"/>
                </a:solidFill>
                <a:latin typeface="Times New Roman"/>
              </a:rPr>
              <a:t>уровень азота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73160" y="1824120"/>
            <a:ext cx="13716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304920" y="1676520"/>
            <a:ext cx="2754360" cy="441936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685800" y="1143000"/>
            <a:ext cx="7848720" cy="0"/>
          </a:xfrm>
          <a:prstGeom prst="line">
            <a:avLst/>
          </a:prstGeom>
          <a:ln w="76320">
            <a:solidFill>
              <a:srgbClr val="ffe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6324480"/>
            <a:ext cx="8382240" cy="0"/>
          </a:xfrm>
          <a:prstGeom prst="line">
            <a:avLst/>
          </a:prstGeom>
          <a:ln w="76320">
            <a:solidFill>
              <a:srgbClr val="ffe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e7b7"/>
                </a:solidFill>
                <a:latin typeface="Times New Roman"/>
              </a:rPr>
              <a:t>БЕЗОПАСНОСТЬ СОЕВОГО БЕЛКА</a:t>
            </a:r>
            <a:endParaRPr b="0" lang="en-US" sz="3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5473440" cy="5183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e7b7"/>
                </a:solidFill>
                <a:uFillTx/>
                <a:latin typeface="Arial"/>
              </a:rPr>
              <a:t>Опыт на мышах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e7b7"/>
                </a:solidFill>
                <a:latin typeface="Arial"/>
              </a:rPr>
              <a:t>Мыши, предрасположенные к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e7b7"/>
                </a:solidFill>
                <a:latin typeface="Arial"/>
              </a:rPr>
              <a:t>раку печени, употребляли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e7b7"/>
                </a:solidFill>
                <a:latin typeface="Arial"/>
              </a:rPr>
              <a:t>пищу с 22%-содержанием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e7b7"/>
                </a:solidFill>
                <a:latin typeface="Arial"/>
              </a:rPr>
              <a:t>молочного белка. Наблюдался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e7b7"/>
                </a:solidFill>
                <a:latin typeface="Arial"/>
              </a:rPr>
              <a:t>рост заболевания раком в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e7b7"/>
                </a:solidFill>
                <a:latin typeface="Arial"/>
              </a:rPr>
              <a:t>этой группе. Снизив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e7b7"/>
                </a:solidFill>
                <a:latin typeface="Arial"/>
              </a:rPr>
              <a:t>употребление белка мышами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e7b7"/>
                </a:solidFill>
                <a:latin typeface="Arial"/>
              </a:rPr>
              <a:t>на 75%, исследователи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e7b7"/>
                </a:solidFill>
                <a:latin typeface="Arial"/>
              </a:rPr>
              <a:t>отметили пропорциональное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e7b7"/>
                </a:solidFill>
                <a:latin typeface="Arial"/>
              </a:rPr>
              <a:t>снижение заболеваемости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292360" y="1412640"/>
            <a:ext cx="3600360" cy="3476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/>
            </a:outerShdw>
          </a:effectLst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e7b7"/>
                </a:solidFill>
                <a:latin typeface="Arial"/>
              </a:rPr>
              <a:t>Заменив молочный белок на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e7b7"/>
                </a:solidFill>
                <a:latin typeface="Arial"/>
              </a:rPr>
              <a:t>соевый, исследователи не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e7b7"/>
                </a:solidFill>
                <a:latin typeface="Arial"/>
              </a:rPr>
              <a:t>отмечали роста рака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26920" y="6819840"/>
            <a:ext cx="7848720" cy="0"/>
          </a:xfrm>
          <a:prstGeom prst="line">
            <a:avLst/>
          </a:prstGeom>
          <a:ln w="76320">
            <a:solidFill>
              <a:srgbClr val="ffe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09480" y="1143000"/>
            <a:ext cx="7848720" cy="0"/>
          </a:xfrm>
          <a:prstGeom prst="line">
            <a:avLst/>
          </a:prstGeom>
          <a:ln w="76320">
            <a:solidFill>
              <a:srgbClr val="ffe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5410080" y="4869000"/>
          <a:ext cx="3733920" cy="2728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410080" y="4869000"/>
                    <a:ext cx="3733920" cy="272880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333333"/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e7b7"/>
                </a:solidFill>
                <a:latin typeface="Times New Roman"/>
              </a:rPr>
              <a:t>СОЯ ПРОТИВ РАКА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250920" y="1413000"/>
          <a:ext cx="2286000" cy="2027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1413000"/>
                    <a:ext cx="2286000" cy="202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114800" y="1267920"/>
            <a:ext cx="4572000" cy="2846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e7b7"/>
                </a:solidFill>
                <a:latin typeface="Arial"/>
              </a:rPr>
              <a:t>азиатские женщины в 5 раз реже болеют раком груди по</a:t>
            </a:r>
            <a:r>
              <a:rPr b="1" lang="en-US" sz="2400" spc="-1" strike="noStrike">
                <a:solidFill>
                  <a:srgbClr val="ffe7b7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e7b7"/>
                </a:solidFill>
                <a:latin typeface="Arial"/>
              </a:rPr>
              <a:t>сравнению с женщинами западных стран благодаря обильному употреблению соевых продуктов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6248520"/>
            <a:ext cx="7848720" cy="0"/>
          </a:xfrm>
          <a:prstGeom prst="line">
            <a:avLst/>
          </a:prstGeom>
          <a:ln w="76320">
            <a:solidFill>
              <a:srgbClr val="ffe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5800" y="1219320"/>
            <a:ext cx="7696080" cy="0"/>
          </a:xfrm>
          <a:prstGeom prst="line">
            <a:avLst/>
          </a:prstGeom>
          <a:ln w="76320">
            <a:solidFill>
              <a:srgbClr val="ffe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50920" y="3429000"/>
            <a:ext cx="4092480" cy="2587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ffe7b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e7b7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e7b7"/>
                </a:solidFill>
                <a:latin typeface="Arial"/>
              </a:rPr>
              <a:t>мужчины-адвентисты, употребляющие соевое молоко более чем раз в день, снижают свой риск заболевания раком простаты на 70 %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4"/>
          <a:stretch/>
        </p:blipFill>
        <p:spPr>
          <a:xfrm>
            <a:off x="6919920" y="4724280"/>
            <a:ext cx="2224080" cy="213372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2025720" y="5842080"/>
            <a:ext cx="550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5148360" y="4800600"/>
          <a:ext cx="1393560" cy="2057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48360" y="4800600"/>
                    <a:ext cx="139356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5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e7b7"/>
                </a:solidFill>
                <a:latin typeface="Times New Roman"/>
              </a:rPr>
              <a:t>СОЯ ПРОТИВ РАКА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50920" y="2420640"/>
            <a:ext cx="5976720" cy="410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e7b7"/>
                </a:solidFill>
                <a:latin typeface="Arial"/>
              </a:rPr>
              <a:t>Генестин</a:t>
            </a:r>
            <a:r>
              <a:rPr b="1" lang="ru-RU" sz="2800" spc="-1" strike="noStrike">
                <a:solidFill>
                  <a:srgbClr val="ffe7b7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e7b7"/>
                </a:solidFill>
                <a:latin typeface="Arial"/>
              </a:rPr>
              <a:t>подавляет ферменты, способствующие росту рака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e7b7"/>
                </a:solidFill>
                <a:latin typeface="Arial"/>
              </a:rPr>
              <a:t>блокирует процесс подведения кровеносных сосудов к раковой опухоли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e7b7"/>
                </a:solidFill>
                <a:latin typeface="Arial"/>
              </a:rPr>
              <a:t>обращает вспять процесс упрощения клеток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11280" y="6838920"/>
            <a:ext cx="7848360" cy="0"/>
          </a:xfrm>
          <a:prstGeom prst="line">
            <a:avLst/>
          </a:prstGeom>
          <a:ln w="76320">
            <a:solidFill>
              <a:srgbClr val="ffe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09480" y="1066680"/>
            <a:ext cx="7848720" cy="0"/>
          </a:xfrm>
          <a:prstGeom prst="line">
            <a:avLst/>
          </a:prstGeom>
          <a:ln w="76320">
            <a:solidFill>
              <a:srgbClr val="ffe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990720" y="1187280"/>
            <a:ext cx="739116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2aad2"/>
                </a:solidFill>
                <a:latin typeface="Arial"/>
              </a:rPr>
              <a:t>Защитный эффект сои заключается в её высоком содержании изофлавонов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6012000" y="2349360"/>
          <a:ext cx="3132000" cy="3595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12000" y="2349360"/>
                    <a:ext cx="3132000" cy="35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4c2b"/>
                </a:solidFill>
                <a:latin typeface="Arial"/>
              </a:rPr>
              <a:t>Жизненная позиция</a:t>
            </a:r>
            <a:br>
              <a:rPr sz="4800"/>
            </a:br>
            <a:r>
              <a:rPr b="1" lang="en-US" sz="2800" spc="-1" strike="noStrike">
                <a:solidFill>
                  <a:srgbClr val="004c2b"/>
                </a:solidFill>
                <a:latin typeface="Arial"/>
              </a:rPr>
              <a:t>Всегда и везде...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520" y="1447920"/>
            <a:ext cx="8305560" cy="31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“ </a:t>
            </a: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И все, что делаете, делайте от души, как для Господа, а не для человекоб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Зная, что воздаяние от Господа получите наследие, ибо вы служите Господу Христу.”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333333"/>
                </a:solidFill>
                <a:latin typeface="Times New Roman"/>
              </a:rPr>
              <a:t>Колоссянам 3:23-24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5800" y="4952880"/>
            <a:ext cx="2209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9753480" y="685800"/>
            <a:ext cx="3822840" cy="53481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80880" y="4191120"/>
            <a:ext cx="3733920" cy="22986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4267080" y="4038480"/>
            <a:ext cx="4876920" cy="31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Arial"/>
              </a:rPr>
              <a:t>«Итак, едите ли,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Arial"/>
              </a:rPr>
              <a:t>пьете ли  или иное что делаете,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Arial"/>
              </a:rPr>
              <a:t>все делайте во славу Божию»</a:t>
            </a:r>
            <a:r>
              <a:rPr b="0" lang="ru-RU" sz="24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1 </a:t>
            </a:r>
            <a:r>
              <a:rPr b="0" i="1" lang="en-US" sz="2400" spc="-1" strike="noStrike">
                <a:solidFill>
                  <a:srgbClr val="333333"/>
                </a:solidFill>
                <a:latin typeface="Arial"/>
              </a:rPr>
              <a:t>Коринфянам 10:31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e7b7"/>
                </a:solidFill>
                <a:latin typeface="Times New Roman"/>
              </a:rPr>
              <a:t>СОЯ ПРОТИВ РАКА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424720" cy="218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e7b7"/>
                </a:solidFill>
                <a:latin typeface="Times New Roman"/>
              </a:rPr>
              <a:t>30…50 мг изофлавонов достаточно для произведения биологического эффекта на человека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6172200"/>
            <a:ext cx="7848720" cy="0"/>
          </a:xfrm>
          <a:prstGeom prst="line">
            <a:avLst/>
          </a:prstGeom>
          <a:ln w="76320">
            <a:solidFill>
              <a:srgbClr val="ffe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09480" y="1447920"/>
            <a:ext cx="7848720" cy="0"/>
          </a:xfrm>
          <a:prstGeom prst="line">
            <a:avLst/>
          </a:prstGeom>
          <a:ln w="76320">
            <a:solidFill>
              <a:srgbClr val="ffe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50920" y="4076640"/>
            <a:ext cx="8893080" cy="1761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buClr>
                <a:srgbClr val="ffe7b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b7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d2aad2"/>
                </a:solidFill>
                <a:latin typeface="Arial"/>
              </a:rPr>
              <a:t>30…40 мг генестина можно получить, </a:t>
            </a:r>
            <a:r>
              <a:rPr b="1" lang="en-US" sz="3200" spc="-1" strike="noStrike">
                <a:solidFill>
                  <a:srgbClr val="d2aad2"/>
                </a:solidFill>
                <a:latin typeface="Arial"/>
              </a:rPr>
              <a:t>           </a:t>
            </a:r>
            <a:r>
              <a:rPr b="1" lang="en-US" sz="3200" spc="-1" strike="noStrike">
                <a:solidFill>
                  <a:srgbClr val="d2aad2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d2aad2"/>
                </a:solidFill>
                <a:latin typeface="Arial"/>
              </a:rPr>
              <a:t>употребив ½ ст. варёной сои</a:t>
            </a:r>
            <a:r>
              <a:rPr b="1" lang="en-US" sz="3200" spc="-1" strike="noStrike">
                <a:solidFill>
                  <a:srgbClr val="d2aad2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4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-76320" y="-360"/>
            <a:ext cx="9144000" cy="6705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e7b7"/>
                </a:solidFill>
                <a:latin typeface="Arial"/>
              </a:rPr>
              <a:t>Средний возраст наступления первой менструации у девочек связан с количеством и типом употребляемого белка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e7b7"/>
                </a:solidFill>
                <a:latin typeface="Arial"/>
              </a:rPr>
              <a:t>Раннее наступление менструации является значительным фактором риска рака груди и матки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55640" y="6858000"/>
            <a:ext cx="7848720" cy="0"/>
          </a:xfrm>
          <a:prstGeom prst="line">
            <a:avLst/>
          </a:prstGeom>
          <a:ln w="76320">
            <a:solidFill>
              <a:srgbClr val="ffe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411280" y="1916280"/>
            <a:ext cx="0" cy="2514600"/>
          </a:xfrm>
          <a:prstGeom prst="line">
            <a:avLst/>
          </a:prstGeom>
          <a:ln w="38160">
            <a:solidFill>
              <a:srgbClr val="a9bd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268360" y="4365720"/>
            <a:ext cx="4343400" cy="0"/>
          </a:xfrm>
          <a:prstGeom prst="line">
            <a:avLst/>
          </a:prstGeom>
          <a:ln w="38160">
            <a:solidFill>
              <a:srgbClr val="a9bd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00360" y="3213000"/>
            <a:ext cx="762120" cy="114300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3333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924360" y="2349360"/>
            <a:ext cx="838080" cy="1981440"/>
          </a:xfrm>
          <a:prstGeom prst="rect">
            <a:avLst/>
          </a:prstGeom>
          <a:solidFill>
            <a:srgbClr val="ffe7b7"/>
          </a:solidFill>
          <a:ln w="0">
            <a:noFill/>
          </a:ln>
          <a:effectLst>
            <a:outerShdw dist="17819" dir="2700000" blurRad="0" rotWithShape="0">
              <a:srgbClr val="3333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590920" y="3429000"/>
            <a:ext cx="761760" cy="39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78963"/>
                </a:solidFill>
                <a:latin typeface="Times New Roman"/>
              </a:rPr>
              <a:t>12.8</a:t>
            </a:r>
            <a:endParaRPr b="0" lang="en-US" sz="2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038480" y="2590920"/>
            <a:ext cx="533520" cy="39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78963"/>
                </a:solidFill>
                <a:latin typeface="Times New Roman"/>
              </a:rPr>
              <a:t>17</a:t>
            </a:r>
            <a:endParaRPr b="0" lang="en-US" sz="2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943600" y="3962520"/>
            <a:ext cx="304920" cy="304560"/>
          </a:xfrm>
          <a:prstGeom prst="rect">
            <a:avLst/>
          </a:prstGeom>
          <a:solidFill>
            <a:srgbClr val="ffe7b7"/>
          </a:solidFill>
          <a:ln w="0">
            <a:noFill/>
          </a:ln>
          <a:effectLst>
            <a:outerShdw dist="17819" dir="2700000" blurRad="0" rotWithShape="0">
              <a:srgbClr val="3333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708360" y="4437000"/>
            <a:ext cx="1371600" cy="42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9bda9"/>
                </a:solidFill>
                <a:latin typeface="Times New Roman"/>
              </a:rPr>
              <a:t>Япония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556000" y="4365720"/>
            <a:ext cx="1218960" cy="39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a9bda9"/>
                </a:solidFill>
                <a:latin typeface="Times New Roman"/>
              </a:rPr>
              <a:t>США</a:t>
            </a:r>
            <a:endParaRPr b="0" lang="en-US" sz="2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400800" y="4076640"/>
            <a:ext cx="228600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9bda9"/>
                </a:solidFill>
                <a:latin typeface="Arial"/>
              </a:rPr>
              <a:t>Белок растительного происхождения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943600" y="3200400"/>
            <a:ext cx="304920" cy="30492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3333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400800" y="3124080"/>
            <a:ext cx="228600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9bda9"/>
                </a:solidFill>
                <a:latin typeface="Arial"/>
              </a:rPr>
              <a:t>Белок животного происхождения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3520" y="-76680"/>
            <a:ext cx="7772400" cy="1676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e7b7"/>
                </a:solidFill>
                <a:latin typeface="Times New Roman"/>
              </a:rPr>
              <a:t>СОЯ ДЛЯ ЖЕНЩИН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7561080" cy="2468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/>
            </a:outerShdw>
          </a:effectLst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e7b7"/>
                </a:solidFill>
                <a:latin typeface="Arial"/>
              </a:rPr>
              <a:t>Во время менопаузы уровень эстрогена значительно снижается, вызывая «приливы» и другие болезненные симптомы менопаузы. Соевые фитоэстрогены, присоединяясь к рецепторам эстрогена в организме, могут заменить его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7667640" y="1628640"/>
            <a:ext cx="1689120" cy="457200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609480" y="6477120"/>
            <a:ext cx="7848720" cy="0"/>
          </a:xfrm>
          <a:prstGeom prst="line">
            <a:avLst/>
          </a:prstGeom>
          <a:ln w="76320">
            <a:solidFill>
              <a:srgbClr val="ffe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80880" y="4941720"/>
            <a:ext cx="7215480" cy="171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01"/>
              </a:spcBef>
              <a:buClr>
                <a:srgbClr val="ffe7b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b7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ffe7b7"/>
                </a:solidFill>
                <a:latin typeface="Arial"/>
              </a:rPr>
              <a:t>В лексиконе японских женщин нет слова для обозначения «приливов», так как это явление среди них крайне редко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6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6683400" y="1371600"/>
            <a:ext cx="2384280" cy="480060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e7b7"/>
                </a:solidFill>
                <a:latin typeface="Times New Roman"/>
              </a:rPr>
              <a:t>СОЯ И ОСТЕОПОРОЗ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4920" y="1268280"/>
            <a:ext cx="6859440" cy="4827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e7b7"/>
                </a:solidFill>
                <a:latin typeface="Times New Roman"/>
              </a:rPr>
              <a:t>в первые 3-5 лет после менопаузы     женщины теряют 3-5% костной массы в год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e7b7"/>
                </a:solidFill>
                <a:latin typeface="Times New Roman"/>
              </a:rPr>
              <a:t>изофлавины из сои препятствуют     резорбции (утончению) костей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 u="sng">
                <a:solidFill>
                  <a:srgbClr val="ffe7b7"/>
                </a:solidFill>
                <a:uFillTx/>
                <a:latin typeface="Times New Roman"/>
              </a:rPr>
              <a:t>в результате – снижение вероятности переломов костей</a:t>
            </a:r>
            <a:endParaRPr b="0" lang="en-US" sz="3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5800" y="1143000"/>
            <a:ext cx="7848720" cy="0"/>
          </a:xfrm>
          <a:prstGeom prst="line">
            <a:avLst/>
          </a:prstGeom>
          <a:ln w="76320">
            <a:solidFill>
              <a:srgbClr val="ffe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84360" y="6524640"/>
            <a:ext cx="7848360" cy="0"/>
          </a:xfrm>
          <a:prstGeom prst="line">
            <a:avLst/>
          </a:prstGeom>
          <a:ln w="76320">
            <a:solidFill>
              <a:srgbClr val="ffe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094440" y="4149720"/>
            <a:ext cx="3049560" cy="194940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ffe7b7"/>
                </a:solidFill>
                <a:latin typeface="Times New Roman"/>
              </a:rPr>
              <a:t>СОВЕТЫ ПО ПРИГОТОВЛЕНИЮ СОИ</a:t>
            </a:r>
            <a:endParaRPr b="0" lang="en-US" sz="31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23640" y="1341360"/>
            <a:ext cx="5924520" cy="460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e7b7"/>
                </a:solidFill>
                <a:latin typeface="Arial"/>
              </a:rPr>
              <a:t>замочите сою на ночь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e7b7"/>
                </a:solidFill>
                <a:latin typeface="Arial"/>
              </a:rPr>
              <a:t>варите не менее 3 часов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e7b7"/>
                </a:solidFill>
                <a:latin typeface="Arial"/>
              </a:rPr>
              <a:t>во время приготовления меняйте воду несколько раз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e7b7"/>
                </a:solidFill>
                <a:latin typeface="Arial"/>
              </a:rPr>
              <a:t>замоченную сою можно подсушить в духовке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85800" y="1143000"/>
            <a:ext cx="7848720" cy="0"/>
          </a:xfrm>
          <a:prstGeom prst="line">
            <a:avLst/>
          </a:prstGeom>
          <a:ln w="76320">
            <a:solidFill>
              <a:srgbClr val="ffe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09480" y="6324480"/>
            <a:ext cx="7848720" cy="0"/>
          </a:xfrm>
          <a:prstGeom prst="line">
            <a:avLst/>
          </a:prstGeom>
          <a:ln w="76320">
            <a:solidFill>
              <a:srgbClr val="ffe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2aad2"/>
                </a:solidFill>
                <a:latin typeface="Times New Roman"/>
              </a:rPr>
              <a:t>ВЫВОД:</a:t>
            </a:r>
            <a:r>
              <a:rPr b="1" lang="ru-RU" sz="4000" spc="-1" strike="noStrike">
                <a:solidFill>
                  <a:srgbClr val="d2aad2"/>
                </a:solidFill>
                <a:latin typeface="Times New Roman"/>
              </a:rPr>
              <a:t> продукты из сои</a:t>
            </a:r>
            <a:br>
              <a:rPr sz="4000"/>
            </a:b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89308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Arial"/>
              </a:rPr>
              <a:t>предлагают полноценный и безопасный белок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Arial"/>
              </a:rPr>
              <a:t>обладают профилактическими свойствами против рака, </a:t>
            </a:r>
            <a:r>
              <a:rPr b="1" lang="ru-RU" sz="2800" spc="-1" strike="noStrike">
                <a:solidFill>
                  <a:srgbClr val="333333"/>
                </a:solidFill>
                <a:latin typeface="Arial"/>
              </a:rPr>
              <a:t>ССЗ</a:t>
            </a:r>
            <a:r>
              <a:rPr b="1" lang="ru-RU" sz="2800" spc="-1" strike="noStrike">
                <a:solidFill>
                  <a:srgbClr val="333333"/>
                </a:solidFill>
                <a:latin typeface="Arial"/>
              </a:rPr>
              <a:t>, остеопороза и других болезней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Arial"/>
              </a:rPr>
              <a:t>помогают облегчить проблемы, связанные с месячными и климактерическим периодом у женщин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Arial"/>
              </a:rPr>
              <a:t>обладают сильным противоокислительным свойством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Arial"/>
              </a:rPr>
              <a:t>укрепляют иммунную систему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Arial"/>
              </a:rPr>
              <a:t>предотвращают болезни почек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4c2b"/>
                </a:solidFill>
                <a:latin typeface="Arial"/>
              </a:rPr>
              <a:t>Аспекты взаимоотношений на кухне и за столом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50920" y="2276280"/>
            <a:ext cx="8664480" cy="38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Arial"/>
              </a:rPr>
              <a:t>Женщина, кухня и стресс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Arial"/>
              </a:rPr>
              <a:t>Взаимоотношения между супругами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Arial"/>
              </a:rPr>
              <a:t>Взаимоотношения между родителями и детьми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Arial"/>
              </a:rPr>
              <a:t>Домашнее образование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Arial"/>
              </a:rPr>
              <a:t>Воспитание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Arial"/>
              </a:rPr>
              <a:t>Возможность дарить любовь</a:t>
            </a: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715000" y="44197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5219640" y="3645000"/>
            <a:ext cx="3924360" cy="17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4c2b"/>
                </a:solidFill>
                <a:latin typeface="Arial"/>
              </a:rPr>
              <a:t>Женщина, кухня и стресс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Радость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Мир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Счастье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Желание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Удовольствие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04920" y="4365720"/>
            <a:ext cx="8458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Матери следует воспитывать в себе веселое, удовлетворенное, счастливое состояние духа…Приподнятый дух будет способствовать счастью всей семьи  и в очень значительной степени укрепит ее собственное здоровье.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i="1" lang="ru-RU" sz="2000" spc="-1" strike="noStrike">
                <a:solidFill>
                  <a:srgbClr val="333333"/>
                </a:solidFill>
                <a:latin typeface="Times New Roman"/>
              </a:rPr>
              <a:t>СИ стр 256-257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4495680" y="1052640"/>
            <a:ext cx="46483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4c2b"/>
                </a:solidFill>
                <a:latin typeface="Arial"/>
              </a:rPr>
              <a:t>Взаимоотношения между супругами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5181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Думают друг о друге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Благодарность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Желание дарить радость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24000" y="3573360"/>
            <a:ext cx="8569080" cy="25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33333"/>
                </a:solidFill>
                <a:latin typeface="Arial"/>
              </a:rPr>
              <a:t>«Для здоровья и счастья семьи нет ничего более жизненно важного, чем умение готовить вкусную и полезную пищу… Итак, житейское счастье во многом  обусловлено нашей верностью в исполнении своих повседневных обязанностей»           </a:t>
            </a: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ОЗП стр 246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33333"/>
                </a:solidFill>
                <a:latin typeface="Arial"/>
              </a:rPr>
              <a:t>«Учитесь дарить все больше счастья друг другу. Пусть ваша любовь и снисходительность будут взаимными» </a:t>
            </a:r>
            <a:r>
              <a:rPr b="0" lang="ru-RU" sz="2000" spc="-1" strike="noStrike">
                <a:solidFill>
                  <a:srgbClr val="333333"/>
                </a:solidFill>
                <a:latin typeface="Arial"/>
              </a:rPr>
              <a:t>СИ стр 247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6745320" y="765000"/>
            <a:ext cx="23986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4c2b"/>
                </a:solidFill>
                <a:latin typeface="Arial"/>
              </a:rPr>
              <a:t>Взаимоотношения между родителями и детьми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756108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lnSpc>
                <a:spcPct val="90000"/>
              </a:lnSpc>
              <a:spcBef>
                <a:spcPts val="601"/>
              </a:spcBef>
              <a:buClr>
                <a:srgbClr val="57896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Общение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257040" indent="-257040">
              <a:lnSpc>
                <a:spcPct val="90000"/>
              </a:lnSpc>
              <a:spcBef>
                <a:spcPts val="601"/>
              </a:spcBef>
              <a:buClr>
                <a:srgbClr val="57896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Благодарность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257040" indent="-257040">
              <a:lnSpc>
                <a:spcPct val="90000"/>
              </a:lnSpc>
              <a:spcBef>
                <a:spcPts val="601"/>
              </a:spcBef>
              <a:buClr>
                <a:srgbClr val="57896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Уважение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257040" indent="-257040">
              <a:lnSpc>
                <a:spcPct val="90000"/>
              </a:lnSpc>
              <a:spcBef>
                <a:spcPts val="601"/>
              </a:spcBef>
              <a:buClr>
                <a:srgbClr val="57896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Терпение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257040" indent="-257040">
              <a:lnSpc>
                <a:spcPct val="90000"/>
              </a:lnSpc>
              <a:spcBef>
                <a:spcPts val="601"/>
              </a:spcBef>
              <a:buClr>
                <a:srgbClr val="57896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Чуткость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257040" indent="-257040">
              <a:lnSpc>
                <a:spcPct val="90000"/>
              </a:lnSpc>
              <a:spcBef>
                <a:spcPts val="601"/>
              </a:spcBef>
              <a:buClr>
                <a:srgbClr val="57896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Любовь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257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4360" y="4114800"/>
            <a:ext cx="8208720" cy="29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33"/>
                </a:solidFill>
                <a:latin typeface="Arial"/>
              </a:rPr>
              <a:t>Счастливы те родители, чья жизнь – истинное отражение жизни на небе, поскольку обетования и повеления Божьи пробуждают в ребенке благодарность и почтительность;благословенны родители, чья чуткость, справедливость и долготерпение открывают ребенку любовь, справедливость и долготерпение Божье…</a:t>
            </a:r>
            <a:r>
              <a:rPr b="1" lang="ru-RU" sz="2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ru-RU" sz="2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ru-RU" sz="2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ru-RU" sz="2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ru-RU" sz="2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ru-RU" sz="2200" spc="-1" strike="noStrike">
                <a:solidFill>
                  <a:srgbClr val="333333"/>
                </a:solidFill>
                <a:latin typeface="Times New Roman"/>
              </a:rPr>
              <a:t>СИ стр 257</a:t>
            </a:r>
            <a:endParaRPr b="0" lang="en-US" sz="2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5508720" y="1557360"/>
            <a:ext cx="3351240" cy="22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4c2b"/>
                </a:solidFill>
                <a:latin typeface="Arial"/>
              </a:rPr>
              <a:t>Домашние образование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131640" y="4076640"/>
            <a:ext cx="57834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7896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Знания о приготовлении </a:t>
            </a: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пищи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7896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Знания </a:t>
            </a: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о культуре поведения за столом  и 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сервировк</a:t>
            </a: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е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 стола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7896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Знания о чистоте и аккуратности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7896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Забота о семье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7896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Подготовка к семейной жизни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914400"/>
            <a:ext cx="81532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“</a:t>
            </a:r>
            <a:r>
              <a:rPr b="1" lang="ru-RU" sz="2000" spc="-1" strike="noStrike">
                <a:solidFill>
                  <a:srgbClr val="333333"/>
                </a:solidFill>
                <a:latin typeface="Arial"/>
              </a:rPr>
              <a:t>Приготовление пищи - -занятие не маловажное. Умелое приготовление пищи является одним из самых значительных видов искусства. К нему следует относится как к одному из наиболее ценных из всех видов искусств, потому что приготовление пищи теснейшим образом связано с жизнью…Как юношам, так и девушкам необходимо учиться готовить пищу …В особенности женщинам необходимо приобретать поварские умения. Что может быть важнее в воспитании девушки, чем это?  </a:t>
            </a:r>
            <a:r>
              <a:rPr b="1" lang="ru-RU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333333"/>
                </a:solidFill>
                <a:latin typeface="Times New Roman"/>
              </a:rPr>
              <a:t>ОЗП стр 544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0" y="4005360"/>
            <a:ext cx="29592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4c2b"/>
                </a:solidFill>
                <a:latin typeface="Arial"/>
              </a:rPr>
              <a:t>Воспитание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419280" y="2286000"/>
            <a:ext cx="534348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Время общения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Возможность учить</a:t>
            </a: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 и учиться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Личный контакт с ребенком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Наши дети  - есть отражение нас самих”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04920" y="1143000"/>
            <a:ext cx="883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Жизнь – это школа, которую должны окончить и родители, и дети, чтобы учиться  дальше в высшей школе в Божьих обителях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4581360"/>
            <a:ext cx="7848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“</a:t>
            </a:r>
            <a:r>
              <a:rPr b="1" lang="ru-RU" sz="2000" spc="-1" strike="noStrike">
                <a:solidFill>
                  <a:srgbClr val="333333"/>
                </a:solidFill>
                <a:latin typeface="Arial"/>
              </a:rPr>
              <a:t>Родители могут заложить в своих детях фундамент для здоровой счастливой жизни. Они могут выпустить их в самостоятельную жизнь вооруженными нравственной стойкостью, противостоять искушению, мужественными и крепкими, умеющими успешно бороться с жизненными проблемами..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.”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333333"/>
                </a:solidFill>
                <a:latin typeface="Times New Roman"/>
              </a:rPr>
              <a:t>СИ стр 241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250920" y="2349360"/>
            <a:ext cx="2735280" cy="2016360"/>
            <a:chOff x="250920" y="2349360"/>
            <a:chExt cx="2735280" cy="2016360"/>
          </a:xfrm>
        </p:grpSpPr>
        <p:pic>
          <p:nvPicPr>
            <p:cNvPr id="124" name="" descr=""/>
            <p:cNvPicPr/>
            <p:nvPr/>
          </p:nvPicPr>
          <p:blipFill>
            <a:blip r:embed="rId2"/>
            <a:stretch/>
          </p:blipFill>
          <p:spPr>
            <a:xfrm>
              <a:off x="250920" y="2349360"/>
              <a:ext cx="2735280" cy="201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 txBox="1"/>
            <p:nvPr/>
          </p:nvSpPr>
          <p:spPr>
            <a:xfrm>
              <a:off x="250920" y="2349360"/>
              <a:ext cx="2735280" cy="2016360"/>
            </a:xfrm>
            <a:prstGeom prst="rect">
              <a:avLst/>
            </a:prstGeom>
            <a:noFill/>
            <a:ln w="0">
              <a:noFill/>
            </a:ln>
          </p:spPr>
          <p:txBody>
            <a:bodyPr anchor="t">
              <a:normAutofit/>
            </a:bodyPr>
            <a:p>
              <a:pPr marL="343080" indent="-343080">
                <a:spcBef>
                  <a:spcPts val="601"/>
                </a:spcBef>
                <a:buClr>
                  <a:srgbClr val="578963"/>
                </a:buClr>
                <a:buFont typeface="Monotype Sort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3640" y="0"/>
            <a:ext cx="856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4c2b"/>
                </a:solidFill>
                <a:latin typeface="Arial"/>
              </a:rPr>
              <a:t>Возможность дарить любовь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23640" y="1980720"/>
            <a:ext cx="4019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Arial"/>
              </a:rPr>
              <a:t>Радость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Arial"/>
              </a:rPr>
              <a:t>Удовольствие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Arial"/>
              </a:rPr>
              <a:t>Благодарность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Arial"/>
              </a:rPr>
              <a:t>Положительные эмоции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50920" y="4869000"/>
            <a:ext cx="8664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“</a:t>
            </a: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Пусть стол будет накрыт привлекательно, поскольку на нем стоят те дары, которые Бог даровал людям с такой щедростью. Пусть час трапезы будет веселым и счастливым временем.»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СИ стр 265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1066680"/>
            <a:ext cx="4648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33"/>
                </a:solidFill>
                <a:latin typeface="Arial"/>
              </a:rPr>
              <a:t>Тарелка с вкусной, здоровой и приятной пищей может рассказать о любви больше, чем множество слов о самой любви!</a:t>
            </a:r>
            <a:r>
              <a:rPr b="1" i="1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5867280" y="2997360"/>
            <a:ext cx="270216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0T04:56:13Z</dcterms:created>
  <dc:creator>Chong I. Ahn</dc:creator>
  <dc:description/>
  <dc:language>en-US</dc:language>
  <cp:lastModifiedBy>home</cp:lastModifiedBy>
  <dcterms:modified xsi:type="dcterms:W3CDTF">2010-01-05T04:23:07Z</dcterms:modified>
  <cp:revision>24</cp:revision>
  <dc:subject/>
  <dc:title>Psychology  of our nutrition</dc:title>
</cp:coreProperties>
</file>